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47A-5639-49B5-A0B9-40975FFD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DBF-E172-4B81-A5F2-90DE6520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5DF-3554-430A-BF4F-CC8BE1AB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384-B39D-4B14-B233-42CEC159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0FD-82B5-4B59-8218-C7A3F3C4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405-F3DD-4FBC-8590-808DA36D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8D1-54FC-4FBA-B151-D8913885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49C-7B37-483F-B384-BEAEA5BB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E67-607B-44AA-A45B-A8B30E2B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08D-7124-44F7-BB42-8556691A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CC5-1A3F-4CCE-9A06-BA8526CB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8A4-5B38-4ACE-AE13-A7781F6F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4FCF-A5D0-4533-9D6C-FD61E89F6B5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4:40:18Z</dcterms:created>
  <dc:creator>Grupo Editorial</dc:creator>
  <dc:description/>
  <dc:language>en-US</dc:language>
  <cp:lastModifiedBy>TORRES</cp:lastModifiedBy>
  <dcterms:modified xsi:type="dcterms:W3CDTF">2010-12-18T22:27:37Z</dcterms:modified>
  <cp:revision>1</cp:revision>
  <dc:subject/>
  <dc:title>Sin título de diapositiva</dc:title>
</cp:coreProperties>
</file>